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7F18-C7FA-4383-ABA2-D009E08C9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6F12-1C94-4CE1-9F3B-D28DDE31E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596-EEFB-450B-BC66-29DF07D4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44A-22A9-4BB9-8D04-90F2E5C7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869-D7A8-4463-A205-C46A3E6B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2D9-FFAD-44C4-8D7D-E9660509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B44-1D4C-4282-8DA2-11113FC9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16A-208A-4BBE-95D9-18A886B8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608-7806-4B5A-98F6-1A0DF934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34D-C7B9-4D14-961E-A9F97EBB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958-3470-4A66-B962-CBB3E280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F0F-F500-430E-8320-0A81416D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663-09DC-4B98-9F3A-229B7CC3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A77-BD96-4537-8638-9F54610F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355-1312-4E65-A4DB-26192DB30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F63-5831-4828-9300-7CF2B54C9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октяб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3601-AEDF-4245-857C-89D146D994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октябр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10-02T06:25:07Z</dcterms:modified>
  <cp:revision>159</cp:revision>
  <dc:subject/>
  <dc:title>Презентация PowerPoint</dc:title>
</cp:coreProperties>
</file>